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1318-B53E-4F81-96AB-7EA9B5C3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5716-A36D-41FF-AF6D-C6359796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5EED-EB40-41EB-9A4D-A35EF91D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DF2A-894C-4ED2-853A-EAF16FE1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91E1-57D9-4099-ABDA-A38D8F11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54C4-39A6-486F-ACC6-21F8535A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D8A9-C79A-4386-B242-A95A6957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C030-AFAC-45CF-965D-239BAFA7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CEDC-4C91-4742-8E5B-AC426E94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C740-BD3D-4273-9275-9C9630F1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B9CC-F5FB-44AD-ACBC-CDBF9A0A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9AA1-475B-4303-9273-DAEB18A4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0888-DC27-4A22-8B67-9A336A58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4E83-AD7A-43D9-A8A0-BD601ABA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BCCC-6429-4052-B0AB-797BEECA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CF2F-F672-4290-B823-14720875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E0B3-2235-44B9-8787-A5D453B7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961A-D459-487D-AA26-C102C20D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26F9-54AD-44A0-9108-FDE781C2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01D5-B892-42D5-9963-066071DD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586E-03F1-41EC-802F-DAAB2D6C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321F-6F7C-4132-AAF4-768BCA38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69C3-9F80-416D-B4AC-1CFADDBC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F451-8CA7-408C-8E06-6238C694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AF53-8AFD-40D4-9B4B-A895F2560BF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2A17-AFE7-4E4D-858A-B5025E519AF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 Black"/>
              </a:rPr>
              <a:t>Lesson 5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Bodoni MT Black"/>
              </a:rPr>
              <a:t>NEW WINE &amp; OLD WINESKI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Matthew 9:17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; Mark 2:22; Luke 5:37-3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follow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 Teaching / Doctrin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k. 1:27; Acts 17:19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follow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 Commandment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John 18:34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wear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 Nam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Rev. 2:17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walk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 &amp; Living Way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Heb.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0:20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nd we serve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ness of Lif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Rom.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6:4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nd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ness of Spirit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Rom. 7:6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No one after drinking old wine wants the new, for he says, the old is better”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(Lk. 5:39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Jesus recognizes man’s reluctance to give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up the </a:t>
            </a:r>
            <a:r>
              <a:rPr b="0" i="1" lang="en-US" sz="2500" spc="-1" strike="noStrike" u="sng">
                <a:solidFill>
                  <a:srgbClr val="ffffff"/>
                </a:solidFill>
                <a:uFillTx/>
                <a:latin typeface="Benguiat Bk BT"/>
              </a:rPr>
              <a:t>Old Paths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, with its traditional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devotions for the novelty of the new,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uncharted ways of the new teacher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Jesus knew the old law viewed the new as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suspect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raditions die slowly; rejection of the new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grows out familiarity of the old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Benguiat Bk BT"/>
              </a:rPr>
              <a:t>New Wine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and the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Benguiat Bk BT"/>
              </a:rPr>
              <a:t>New Skins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of the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Christian system offended the traditional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Hebrew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o the Jew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good old day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re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only day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, and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storation of Israel had to be the wa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o go (Acts 1:6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The prophets and the La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spoke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later day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coming day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and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end of the ag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of Judaism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(Isa 2:2-4; Joel 2:28ff; Dan 2:44ff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Hebrews speaks of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world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com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and its new priestly system a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having com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Heb 2:5; 9:11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hrist’s teaching were revolutionary, but iconoclastic in the destruction or denial of their Hebrew roo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ohn 4:22 –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‘Salvation is from the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Jews’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– not the Samaritans, muc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es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Genti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ewish Christians may still b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zealous of the law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Acts 21:20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They may still enjoy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old win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a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long as they didn’t impose it on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oth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Cf. Rom. 14:1-12; Gal. 2:3-5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Good news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Incompatibility of the Old and the Ne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the same as the previous two parables – The question is still FASTIN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the same truth but with a new empha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new cloth and the new win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re known a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Twin Parab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parables of the ‘Pearl of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reat Price’ and the ‘Hidde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reasure’ teach the same less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wo problems present in this parab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new wine is lost along with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new life it offer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old skins are burst and lose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nt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ut both are significant withi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ir own spheres of purpo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NEW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life in Christ is lost when forced in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OLD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forms (Galatians 5:2-6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f. John 1:17. (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‘truth’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is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‘reality’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law was a system of shadows,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nd it rituals were prophetic of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“reality” and was significant only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“until”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(or, as far as, and until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urther)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ebrews 9:1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8600" y="2133720"/>
          <a:ext cx="8763120" cy="4032000"/>
        </p:xfrm>
        <a:graphic>
          <a:graphicData uri="http://schemas.openxmlformats.org/drawingml/2006/table">
            <a:tbl>
              <a:tblPr/>
              <a:tblGrid>
                <a:gridCol w="1752120"/>
                <a:gridCol w="1752120"/>
                <a:gridCol w="1754280"/>
                <a:gridCol w="1752120"/>
                <a:gridCol w="1752480"/>
              </a:tblGrid>
              <a:tr h="19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Based On L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Requires </a:t>
                      </a: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Perfection -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Earn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Glory To 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Impossibl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 to Att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Produces Frustration &amp; Bond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Based On 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Require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 Faith In G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Free Gif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Freely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Availabl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Produces </a:t>
                      </a: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Assuranc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 &amp; Freedo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990720" y="15238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2193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ONTRAST BETWEEN OLD &amp; NEW ON JUS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What If Christianity is viewed as a new legal system of Justification?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We would have the same frustration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. Romans 8:1 –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‘no condemnation…’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2. Romans 7:24 –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‘O wretched man… who will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   deliver me?’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3. Gal. 3:10-12 –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‘Christ redeemed us from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   the curse.’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We would lose our assurance in Christ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. Rom. 5:1 –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‘being justified… we have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   peace.’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2. 1 Jno 5:13 –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‘…written that we may know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   we have eternal life.’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would lose or destroy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urpos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f the Law – the old skins are burst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uined of their purpose (Gal. 3:22-25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would lose the purpose of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ross – Gal. 2:21; 3:13-14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would lose the purpose of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bedience of fai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Salvation would be b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performance (Rom 4:2-5) a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would exclude all men (Rom 3:9-2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We claim justification by fait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(Titus 3:4-7; Eph. 2:5-10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ut In Chris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e are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New Creation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(2 Cor.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5:17; Gal. 6:15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e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One Man In Christ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(Gal.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:28; Eph. 2:15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e are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New Jerusalem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(Rev.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1:2; Heb. 12:22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or us,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‘the firs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(old)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things are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passed away… all things are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new.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9:19:05Z</dcterms:created>
  <dc:creator>Jerry Cantrell </dc:creator>
  <dc:description/>
  <dc:language>en-US</dc:language>
  <cp:lastModifiedBy>Jerry Cantrell </cp:lastModifiedBy>
  <dcterms:modified xsi:type="dcterms:W3CDTF">2006-02-13T10:53:50Z</dcterms:modified>
  <cp:revision>16</cp:revision>
  <dc:subject/>
  <dc:title>NEW WINE &amp; OLD WINESKINS</dc:title>
</cp:coreProperties>
</file>